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02E-0B96-485F-BCAC-18AF34C5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C6D-AD51-42CA-A024-4AEBE839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917-9494-41D7-A8D2-6DAB6950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540-E80B-483A-9318-E1FE15B2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3D4F-2E24-40CF-84A2-50FE9B6C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6351-B77E-4B44-98BB-F388873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8094-A0DC-4698-ABF6-00A8CD88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7468-C5EA-49DA-9F1E-8C0B6AD1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8791-E22E-4741-AF85-725A7F57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645A-4C11-40EB-AA03-3CDFDFD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3F6-4C04-4B25-A63B-A419CF38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EE6-7B4B-425D-AC2A-76BFC93B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D0FA-1FC4-4CE2-814A-DA5D1154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9578-5BA5-4211-BE28-76786F59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4D11-3647-47F8-A687-BAF32C6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2945-1E89-435F-BBDC-7D3F0973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C70D-1CA1-4467-8644-45960090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1A96-9BB8-4C74-80A8-26F39DD0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296E9-7732-4DE6-9905-C69B6E0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FD34-4C2D-409D-A08B-8108500F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DCEF7-8C4E-496B-BA7A-2F14810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892F-C104-4F19-AE4D-D323863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3B4-9071-4F59-AA6E-AAE7377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D425C-6B9F-4061-A6D4-83E7A7BE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7E63-8E56-4CE3-8764-FE34581D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C3C9-1CEA-4693-9B28-A658CA7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D8452-D37B-4BBD-997A-E52A2501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A123-7000-43B9-95BE-AA16744D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96513-DB2A-4059-9DA3-AD9953C1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331C-F039-44F2-8F9C-CA3365D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E3331-3F0D-4B0E-8D11-D8C7F03B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8E3A-A2BD-49A3-8D70-02134EF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BA99-5A4A-4F5C-9AC3-569C2CA0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D5D-9C27-402A-9704-693A93AF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863E-37AD-41F4-82C7-87FD4273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1B47-EC44-4E7B-9EFD-35FE97FC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207CA-F1F2-4B6D-9782-BB027909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108B-F0C5-4398-90DE-C960A685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EFDD-312F-41D9-84CB-59717DB8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5110-1DEB-4355-96AC-63B95A2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4EF93-7D44-4483-A644-96519ADF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BA7D-E48C-4AB9-B48D-399D0824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ADC2E-8064-47E1-A585-0200F25F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E13C7-5D98-4039-B2FD-08122B93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7A7E-C99F-4B67-87CE-E23E6FA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5DAEE-384A-47EE-8A32-FEE7904F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37491-91CC-4FA0-BFD9-343D2F6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B544-E2CE-4901-ADFD-3687A7E9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8833-AA98-47E9-9BD7-14C35CA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DA2E5-D5E1-456E-ACBF-ED6A97B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D503D-526D-4960-9CDF-2FE6E97F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BB144-E7EB-4394-AAF5-0C0165A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757B1-68F9-4D6A-A1C5-F467A4F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AF1F-9E8F-4A9A-95E4-4CA3D8C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849B-74CC-4EF1-951A-36305EDF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7C2-604C-491A-9C50-A0885B3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2649-5B62-4AB6-8001-8622E6FA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92F-B5A9-4A03-8A1E-2877F97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B1E-34A1-42F5-B80D-749435CA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BF4C-F2EA-4133-AA73-0DD277E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960B-81EA-4CD9-A6F8-08CBB506C192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7 Rectángulo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7 Rectángulo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9 Conector recto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1DF-78AB-4EB6-AD75-7924EA7FBAE2}" type="slidenum">
              <a:rPr b="0" lang="es-E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7A2E-6F74-46E5-BA4B-CFA95F4D3420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7 Rectángulo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9 Rectángulo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DB9-72E3-42FE-A044-0988D6278500}" type="slidenum">
              <a:rPr b="0" lang="es-E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8 Rectángulo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8 Rectángulo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DBC3-388A-4425-879B-37F39E82BED9}" type="slidenum">
              <a:rPr b="0" lang="es-E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4 Título" descr=""/>
          <p:cNvPicPr/>
          <p:nvPr/>
        </p:nvPicPr>
        <p:blipFill>
          <a:blip r:embed="rId1"/>
          <a:stretch/>
        </p:blipFill>
        <p:spPr>
          <a:xfrm>
            <a:off x="596880" y="682560"/>
            <a:ext cx="8163000" cy="5784840"/>
          </a:xfrm>
          <a:prstGeom prst="rect">
            <a:avLst/>
          </a:prstGeom>
          <a:ln w="0">
            <a:noFill/>
          </a:ln>
        </p:spPr>
      </p:pic>
      <p:pic>
        <p:nvPicPr>
          <p:cNvPr id="221" name="03 Les gens sont fous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3 Imagen" descr="Imagen003.jpg"/>
          <p:cNvPicPr/>
          <p:nvPr/>
        </p:nvPicPr>
        <p:blipFill>
          <a:blip r:embed="rId2"/>
          <a:stretch/>
        </p:blipFill>
        <p:spPr>
          <a:xfrm>
            <a:off x="1979640" y="1844640"/>
            <a:ext cx="58690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1 Imagen" descr="Imagen004.jpg"/>
          <p:cNvPicPr/>
          <p:nvPr/>
        </p:nvPicPr>
        <p:blipFill>
          <a:blip r:embed="rId1"/>
          <a:stretch/>
        </p:blipFill>
        <p:spPr>
          <a:xfrm>
            <a:off x="3924360" y="1220760"/>
            <a:ext cx="4227480" cy="563724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395280" y="836640"/>
            <a:ext cx="309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rebuchet MS"/>
              </a:rPr>
              <a:t>Les derniers mètres avant arriver au Calv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Imagen" descr="Imagen005.jpg"/>
          <p:cNvPicPr/>
          <p:nvPr/>
        </p:nvPicPr>
        <p:blipFill>
          <a:blip r:embed="rId1"/>
          <a:stretch/>
        </p:blipFill>
        <p:spPr>
          <a:xfrm>
            <a:off x="2556000" y="2276640"/>
            <a:ext cx="5580000" cy="4186080"/>
          </a:xfrm>
          <a:prstGeom prst="rect">
            <a:avLst/>
          </a:prstGeom>
          <a:ln w="0">
            <a:noFill/>
          </a:ln>
        </p:spPr>
      </p:pic>
      <p:sp>
        <p:nvSpPr>
          <p:cNvPr id="227" name="2 CuadroTexto"/>
          <p:cNvSpPr/>
          <p:nvPr/>
        </p:nvSpPr>
        <p:spPr>
          <a:xfrm>
            <a:off x="611280" y="404640"/>
            <a:ext cx="7273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rebuchet MS"/>
              </a:rPr>
              <a:t>On arrive à “El Rabal”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C’est  la rue “Benito Toboso” et les tambourineurs restent , et restent, et restent, arrêtés dans El Rabal avec leurs tam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1 Imagen" descr="Imagen006.jpg"/>
          <p:cNvPicPr/>
          <p:nvPr/>
        </p:nvPicPr>
        <p:blipFill>
          <a:blip r:embed="rId1"/>
          <a:stretch/>
        </p:blipFill>
        <p:spPr>
          <a:xfrm>
            <a:off x="395280" y="189000"/>
            <a:ext cx="3868920" cy="5156280"/>
          </a:xfrm>
          <a:prstGeom prst="rect">
            <a:avLst/>
          </a:prstGeom>
          <a:ln w="0">
            <a:noFill/>
          </a:ln>
        </p:spPr>
      </p:pic>
      <p:sp>
        <p:nvSpPr>
          <p:cNvPr id="229" name="3 CuadroTexto"/>
          <p:cNvSpPr/>
          <p:nvPr/>
        </p:nvSpPr>
        <p:spPr>
          <a:xfrm>
            <a:off x="4572000" y="260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La procession est arrêtée vers une demi-heure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1 Imagen" descr="Imagen007.jpg"/>
          <p:cNvPicPr/>
          <p:nvPr/>
        </p:nvPicPr>
        <p:blipFill>
          <a:blip r:embed="rId1"/>
          <a:stretch/>
        </p:blipFill>
        <p:spPr>
          <a:xfrm>
            <a:off x="2843280" y="1268280"/>
            <a:ext cx="3976560" cy="5302440"/>
          </a:xfrm>
          <a:prstGeom prst="rect">
            <a:avLst/>
          </a:prstGeom>
          <a:ln w="0">
            <a:noFill/>
          </a:ln>
        </p:spPr>
      </p:pic>
      <p:sp>
        <p:nvSpPr>
          <p:cNvPr id="231" name="3 CuadroTexto"/>
          <p:cNvSpPr/>
          <p:nvPr/>
        </p:nvSpPr>
        <p:spPr>
          <a:xfrm>
            <a:off x="611280" y="549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Les Nazaréens sont désespérés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très fatigué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1 Imagen" descr="Imagen008.jpg"/>
          <p:cNvPicPr/>
          <p:nvPr/>
        </p:nvPicPr>
        <p:blipFill>
          <a:blip r:embed="rId1"/>
          <a:stretch/>
        </p:blipFill>
        <p:spPr>
          <a:xfrm>
            <a:off x="395280" y="189000"/>
            <a:ext cx="3489480" cy="4653000"/>
          </a:xfrm>
          <a:prstGeom prst="rect">
            <a:avLst/>
          </a:prstGeom>
          <a:ln w="0">
            <a:noFill/>
          </a:ln>
        </p:spPr>
      </p:pic>
      <p:sp>
        <p:nvSpPr>
          <p:cNvPr id="233" name="2 CuadroTexto"/>
          <p:cNvSpPr/>
          <p:nvPr/>
        </p:nvSpPr>
        <p:spPr>
          <a:xfrm>
            <a:off x="395280" y="51577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030a0"/>
                </a:solidFill>
                <a:latin typeface="Trebuchet MS"/>
              </a:rPr>
              <a:t>À la fin, comme toutes les années , la procession finit et  La Samaritaine peut aller à sa maison pour se reposer à l’année procha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4:24Z</dcterms:created>
  <dc:creator> </dc:creator>
  <dc:description/>
  <dc:language>en-US</dc:language>
  <cp:lastModifiedBy> </cp:lastModifiedBy>
  <dcterms:modified xsi:type="dcterms:W3CDTF">2012-04-15T20:31:15Z</dcterms:modified>
  <cp:revision>16</cp:revision>
  <dc:subject/>
  <dc:title>LA SAMARITAINE PROCESSIONES DE L’ASCENSION VERS SCENTION  MAVENDREDI </dc:title>
</cp:coreProperties>
</file>